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900-34A1-4C27-825D-F5D778FF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B000-884A-4F49-B342-4EC46A70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5D53-5375-4F1F-9A82-77E0B6F2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F93-9A63-416A-9084-D67704E8F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E11-CE68-4B0A-8DAC-1A972555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84B4-651A-4173-98E8-12E8B5F3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159-8612-4A33-A4FC-224570AD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406-3B87-4333-9E3D-EC0DB43D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DF44-52BB-4278-96D4-69685392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1C7-1C02-4622-A863-B5557841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2D6-4C32-45EF-B6DC-867502DD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9241-0400-4674-9290-072459FF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561-4480-43E2-AF0A-6317FBB5D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intro-bkg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14400" y="762120"/>
            <a:ext cx="7711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719280" y="56664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1600"/>
            </a:br>
            <a:r>
              <a:rPr b="0" i="1" lang="en-US" sz="5400" spc="-1" strike="noStrike">
                <a:solidFill>
                  <a:srgbClr val="ccff33"/>
                </a:solidFill>
                <a:latin typeface="Franklin Gothic Heavy"/>
              </a:rPr>
              <a:t>Chemicals and Safe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en-US" sz="5400" spc="-1" strike="noStrike">
                <a:solidFill>
                  <a:srgbClr val="333399"/>
                </a:solidFill>
                <a:latin typeface="Franklin Gothic Heavy"/>
              </a:rPr>
              <a:t>Chemicals and Safe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7" descr="fertilizer-a"/>
          <p:cNvPicPr/>
          <p:nvPr/>
        </p:nvPicPr>
        <p:blipFill>
          <a:blip r:embed="rId2"/>
          <a:stretch/>
        </p:blipFill>
        <p:spPr>
          <a:xfrm>
            <a:off x="0" y="2522520"/>
            <a:ext cx="9144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bkgd-flammable1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096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76240" y="171468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Franklin Gothic Medium"/>
              </a:rPr>
              <a:t>Pyrophoric Substa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bkgd-biohazar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920" y="181944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Franklin Gothic Medium"/>
              </a:rPr>
              <a:t>Carcinog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intro-bkgd-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s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8068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Questions and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9" descr="intro-bkgd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657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Chemicals – Helpful and Harmfu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11" descr="bags"/>
          <p:cNvPicPr/>
          <p:nvPr/>
        </p:nvPicPr>
        <p:blipFill>
          <a:blip r:embed="rId3"/>
          <a:stretch/>
        </p:blipFill>
        <p:spPr>
          <a:xfrm>
            <a:off x="1600200" y="1752480"/>
            <a:ext cx="59436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ntro-bkgd-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9976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Sample Pesticide L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6" descr="e2182v2"/>
          <p:cNvPicPr/>
          <p:nvPr/>
        </p:nvPicPr>
        <p:blipFill>
          <a:blip r:embed="rId3"/>
          <a:stretch/>
        </p:blipFill>
        <p:spPr>
          <a:xfrm>
            <a:off x="1905120" y="1790640"/>
            <a:ext cx="5508360" cy="38480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7" name="Text Box 28"/>
          <p:cNvSpPr/>
          <p:nvPr/>
        </p:nvSpPr>
        <p:spPr>
          <a:xfrm>
            <a:off x="7464960" y="35053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Ingred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9"/>
          <p:cNvSpPr/>
          <p:nvPr/>
        </p:nvSpPr>
        <p:spPr>
          <a:xfrm>
            <a:off x="7474320" y="182880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7536600" y="4724280"/>
            <a:ext cx="120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War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213480" y="190512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Dir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2"/>
          <p:cNvSpPr/>
          <p:nvPr/>
        </p:nvSpPr>
        <p:spPr>
          <a:xfrm>
            <a:off x="31320" y="5241960"/>
            <a:ext cx="182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H="1">
            <a:off x="6553080" y="2057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708660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H="1">
            <a:off x="7086600" y="4952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8"/>
          <p:cNvSpPr/>
          <p:nvPr/>
        </p:nvSpPr>
        <p:spPr>
          <a:xfrm>
            <a:off x="1685880" y="2104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9"/>
          <p:cNvSpPr/>
          <p:nvPr/>
        </p:nvSpPr>
        <p:spPr>
          <a:xfrm>
            <a:off x="1743120" y="54482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237240" y="49370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Registry N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1"/>
          <p:cNvSpPr/>
          <p:nvPr/>
        </p:nvSpPr>
        <p:spPr>
          <a:xfrm>
            <a:off x="1752480" y="5181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244800" y="4057560"/>
            <a:ext cx="136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Storage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Dis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4"/>
          <p:cNvSpPr/>
          <p:nvPr/>
        </p:nvSpPr>
        <p:spPr>
          <a:xfrm>
            <a:off x="1523880" y="4419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226080" y="3352680"/>
            <a:ext cx="141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Re-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6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7"/>
          <p:cNvSpPr/>
          <p:nvPr/>
        </p:nvSpPr>
        <p:spPr>
          <a:xfrm>
            <a:off x="202320" y="2362320"/>
            <a:ext cx="148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Prot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Franklin Gothic Medium"/>
              </a:rPr>
              <a:t>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523880" y="28954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9"/>
          <p:cNvSpPr/>
          <p:nvPr/>
        </p:nvSpPr>
        <p:spPr>
          <a:xfrm>
            <a:off x="3021840" y="5791320"/>
            <a:ext cx="33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The Label is the Law.</a:t>
            </a:r>
            <a:r>
              <a:rPr b="0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8" descr="bkgd-ref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280" y="5904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Basic Rules of Chemical Saf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1649520" y="2514600"/>
            <a:ext cx="40287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Be Awar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      </a:t>
            </a: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Be Alert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Franklin Gothic Medium"/>
              </a:rPr>
              <a:t>            </a:t>
            </a:r>
            <a:r>
              <a:rPr b="0" lang="en-US" sz="4800" spc="-1" strike="noStrike">
                <a:solidFill>
                  <a:srgbClr val="333399"/>
                </a:solidFill>
                <a:latin typeface="Franklin Gothic Medium"/>
              </a:rPr>
              <a:t>Be Aliv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ntro-bkgd-1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auses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Franklin Gothic Book"/>
              </a:rPr>
              <a:t>Principle modes of chemical inju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1. 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</a:rPr>
              <a:t>Chemical Burns</a:t>
            </a: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 (strong acids, strong ba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2. 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</a:rPr>
              <a:t>Heat Burns</a:t>
            </a: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 (flammable mater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3. 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</a:rPr>
              <a:t>Poisoning </a:t>
            </a: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(many chemicals are damaging or fatal if taken internally, whether by swallowing, injection, or leaching through sk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4. </a:t>
            </a:r>
            <a:r>
              <a:rPr b="1" lang="en-US" sz="2800" spc="-1" strike="noStrike">
                <a:solidFill>
                  <a:srgbClr val="333399"/>
                </a:solidFill>
                <a:latin typeface="Franklin Gothic Medium"/>
              </a:rPr>
              <a:t>Chronic illness</a:t>
            </a:r>
            <a:r>
              <a:rPr b="1" lang="en-US" sz="2800" spc="-1" strike="noStrike">
                <a:solidFill>
                  <a:srgbClr val="333399"/>
                </a:solidFill>
                <a:latin typeface="Franklin Gothic Book"/>
              </a:rPr>
              <a:t> (long-term exposure to even low doses of certain chemical agents can lead to chronic health condi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0" descr="bkgd-categories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6" descr="bkgd-corrosiv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57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Franklin Gothic Medium"/>
              </a:rPr>
              <a:t>Acids &amp; B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bkgd--flammable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Franklin Gothic Medium"/>
              </a:rPr>
              <a:t>Flammable Chemic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bkgd-oxidizer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intro-green-band-1"/>
          <p:cNvPicPr/>
          <p:nvPr/>
        </p:nvPicPr>
        <p:blipFill>
          <a:blip r:embed="rId2"/>
          <a:stretch/>
        </p:blipFill>
        <p:spPr>
          <a:xfrm>
            <a:off x="0" y="685800"/>
            <a:ext cx="9144000" cy="7905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32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Franklin Gothic Medium"/>
              </a:rPr>
              <a:t>Chemical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24040" y="179028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Franklin Gothic Medium"/>
              </a:rPr>
              <a:t>Oxidiz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10666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20:27:15Z</dcterms:created>
  <dc:creator>Charles M. Brown</dc:creator>
  <dc:description/>
  <dc:language>en-US</dc:language>
  <cp:lastModifiedBy>Microsoft Office User</cp:lastModifiedBy>
  <dcterms:modified xsi:type="dcterms:W3CDTF">2011-09-16T01:13:25Z</dcterms:modified>
  <cp:revision>87</cp:revision>
  <dc:subject/>
  <dc:title>PowerPoint Presentation</dc:title>
</cp:coreProperties>
</file>